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6.jpeg" ContentType="image/jpeg"/>
  <Override PartName="/ppt/media/image19.png" ContentType="image/png"/>
  <Override PartName="/ppt/media/image26.gif" ContentType="image/gif"/>
  <Override PartName="/ppt/media/camera.wav" ContentType="audio/x-wav"/>
  <Override PartName="/ppt/media/image22.gif" ContentType="image/gif"/>
  <Override PartName="/ppt/media/image4.jpeg" ContentType="image/jpeg"/>
  <Override PartName="/ppt/media/suction.wav" ContentType="audio/x-wav"/>
  <Override PartName="/ppt/media/image25.png" ContentType="image/png"/>
  <Override PartName="/ppt/media/wind.wav" ContentType="audio/x-wav"/>
  <Override PartName="/ppt/media/image21.jpeg" ContentType="image/jpeg"/>
  <Override PartName="/ppt/media/chimes.wav" ContentType="audio/x-wav"/>
  <Override PartName="/ppt/media/image9.gif" ContentType="image/gif"/>
  <Override PartName="/ppt/media/image1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27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17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267-EDB7-47C4-A812-3468BABE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66D-2A78-4230-858F-756D4AD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B9BCA-3840-4320-B83F-E0C800BA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EE19F-AE01-46BE-AAE8-BC97C921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AC42A-F7A2-48B1-97F3-47B6B5D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4E1B-240D-4EF9-9A7D-C179BC2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03CC2-C659-472C-B7D9-167F048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2DDF0-FCBB-4E1A-BCE4-EA093E2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33EA-7585-4FE5-9505-4AD83E6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A267C-29C5-473C-BEB3-8333BE55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455AE-F22C-4076-AD5D-B131160C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B8F72-7A24-4A53-877F-C9AC2BCF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538-DEF8-4012-B9B8-8C406C8F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D2530-BA77-47F3-8C47-B9E2831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6405B-EBE3-4C1A-8823-1DD87DDB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B806-9BA7-46C3-942F-1552DC83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BF7E7-C775-477F-AE1E-30A3F616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9E5E1-E3D9-47B0-93E1-A0A7E1E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598DE-8BDD-4ECA-AF4C-9F2DF5F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B149-EF27-4B43-A2F4-75EE0A1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E134F-7F84-4E81-BBD4-9B9AA8E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DDE49-6FB0-4086-9BAB-440E68B8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77718-D6C6-49C8-A3B6-935A43E1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C1A-BE09-4A1F-A6C0-57EC158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4945-40E5-441F-9611-B5A4E5A8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2D31D-5FA4-4AFF-A07B-9CC5CBD3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5D757-CFED-471E-BAFA-B19CC534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8E858-9CC8-4673-84A2-D43CFB8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BCEAA-538C-4D7B-9530-A2A7ECB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2AF6-FB2B-469A-B015-C55B5D47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8CAA3-0EB6-46B9-8285-0086A19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FC16-3F10-44BE-835D-03622F8E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7451A-50A0-4F9F-AC40-072DB67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F659-5290-401F-AFD2-0421283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1663-0BA9-479A-9EDF-A5E8482C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4E69D-6C84-48AB-A3AC-5BD2477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49BF2-D449-4640-8364-0EEA839A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2BE6-8220-4E97-A4AC-E5F6DC6F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9FD70-0095-49AA-A311-C02316AD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7D04E-D0DA-4349-BA48-E1AFAE0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EEE21-EAD8-4C4C-A68B-3C18C3D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C1A54-E1F5-407C-AB01-EB97CE0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4E7D1-01F1-4ACA-A91D-B00A2FA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B57B9-C91E-4426-8FA9-97542270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12F14-CF45-4678-94A7-0E1F16D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F46F-7CD0-477A-A71F-F9766AD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37B51-90DB-427F-AB04-7DD325C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E0F03-0813-4203-8981-602A8DE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37FE6-1717-46C8-B314-01AC2B8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E8761-06F4-4FC4-89E6-BC5098A0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03ACC-3483-43D5-BA58-71AD0C8B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41FF0-7CB4-4FD1-A1E3-AC0FCC6C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05638-AD11-4A07-8633-AFE7A73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C2CBE-1954-4C2B-90DE-F9C1B31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839B8-FE89-4E18-A89C-B6E831C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C57E6-B0CD-4C14-9F8C-D64E4A3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D45-8E74-403C-A0C2-AEF42D31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FD018-FDA7-4B87-9CF3-E67AC42B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C5FFF-8494-4563-9654-B86119A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C3E2E-48FB-471F-BFA9-E9AE9EE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0288C-6F1A-46E0-933D-55177D3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4232F-167B-42F9-8C73-6D77DA83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034EF-778E-4777-9F65-05E247B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1D74E-8D47-4459-9760-A39F089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7E078-ACE8-4BF3-A0D7-EFC707EC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40812-1962-4D1C-9D1A-968E340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3932F-305F-4444-AA10-58DD75A4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9860-B822-44BB-A3C1-105C4F6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23863-AE57-4729-96E5-F738E972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1687E-2DA8-42C7-B676-240F1F5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AB344-4E51-43E5-9317-7DDC177F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575AE-6DF3-4ACA-8EE7-855B8B3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E0582-1FA7-4874-BDF4-DE3D2E1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213EB-DDF5-4032-B6FA-30B47EB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52B3B-59E6-4908-859F-38C40D3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ABA17-8592-4C32-99AF-9DDCA26E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4DE96-9AF9-4559-9ADC-D44F3FA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2B22F-E30E-4A21-8808-89783223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E00-D8E6-48F6-821B-0924973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8C721-C013-4658-A90F-F971BAE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8CCA5-2597-4F3E-AB1C-8D386DB3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460A2-66D2-402C-9245-55C1CEE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968DF-C5F3-4EC1-9C5F-9F48F3A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F51EB-5363-4CBF-BB5A-AB429880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C9E44-7298-486E-820E-9A281B6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249A9-B8D6-47D2-A13B-51CDD667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B88E4-A455-4217-BA0E-D5D425DE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B8446-97E7-4C92-8FC5-7684E83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B2AB4-DB33-4C57-86BE-F7D8B11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5BA2-5A7A-4028-B8B6-987D7D34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7FC18-EF09-4312-93F0-22C2448B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A3D08-B370-49C2-BB29-6FE889F9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DE98D-642B-4B9E-AEF9-21C8880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51BCC-0118-4C2D-AA33-568B674A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8D58A-7AE9-46FC-9909-E1A9B5C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F0282-9682-401E-AB8F-20CB853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B15D6-DE34-4126-B4E4-AB6CFFA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7C14A-C15D-415C-BE7A-A35625E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C9430-9BD9-4CD6-9050-9B4C2C1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F5408-3538-4AFF-BB3C-11C114B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7B9D-027F-476A-9C7A-6A33B91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36069-9118-456D-94E8-A6F4FA7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6D650-50AC-4BCE-BFED-244CAC28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34DC8-9E7B-464F-8234-8DF4E9A6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2BC55-AF45-4F12-9DA9-BCBDB129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7C91B-A29B-4FF0-AD4D-5F2442AE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0F323D-8278-43F0-B3CB-A293F47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8EF02-9498-4C58-80AD-805A744B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451FA-7539-4657-8664-CAE35502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037A7-21C4-43F8-87BE-F45DDDE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70033-9CED-45E5-A73E-F45E6E9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17F-0419-4F1C-872E-BFE9BDDE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78C-8D28-4DB3-8B21-0A53F75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248F6-80E8-4FCB-BCAE-45809E7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75085-52A7-4F17-84D2-C6C1F04D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A4B54-AEFA-4D9F-9E16-C6DAA22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E4CAB-2E53-4205-B6FA-1574CE0F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AC35C-6C86-457B-B325-26F259C2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C8071-55B2-4077-9268-8F6AF577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A2E9A-B2B7-4E7E-92D5-733C9BE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4E159-AC47-4EF2-A241-5CC35C75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1A8DA-9119-44B5-A2E6-F9410DFA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3A9A8-1C09-4FD1-86EB-AE4049E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DB5-324C-4C97-88E4-BE21C0B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AC7E8-AAB4-4844-86EB-1AE4A29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206CC-F6ED-4F2B-A92B-7BFC477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26867-07A3-44D7-8EF4-5C2DCE3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BDF34-DFA4-4427-91F5-20ED83D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28589-73F7-4983-B62C-D1DEBAE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DC541-3372-4B06-A30D-D4F24685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B242E-FC17-4363-999E-78A09983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A6893-77C9-4BCD-A7BF-C364BB99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2EB87-755C-4E01-85D4-9F853DC2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AA440-95DB-43B5-BCB4-3C775B5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A47A-CAA7-4307-B607-58E3120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7D68C-24EC-4EE4-8EA2-38F7A0BF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CD542-71C9-4EA9-BCBA-FA1EAED7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2EB97-2113-4991-B473-E5C358A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A2ABA-F178-4FE1-A4A4-5D956DA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AD450-31E9-4C8A-A296-03F17DA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4D66F-E8FF-4E43-AFEA-8D800770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40425-FA29-4593-B382-B8610E1E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27D3C-3BFC-4DB2-947E-5E7F1F55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6989C-10A0-4F7E-BBEE-D5C17BAE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3F0CD-6A41-4853-985F-3714FA9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771D-C6C6-4125-A8EF-0C9EC553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B24BE-FC84-487B-BBB0-EB8B5301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D617B-3B91-48FB-83CC-0ABD231C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EA2F4-5939-402D-B8D7-7F6D1AD3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09F49-59E5-4B51-8B4D-3B84A0F6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1FF35-2CD1-4A3A-8B68-93256AEE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FC40F-929C-4F0A-8098-2E8DF6B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CC42E-2965-4AF5-83E8-CDAFB0D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062BF-D612-43BC-8AC5-BCF9EE0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7769B-4233-449C-9627-2D3D92B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EBCE1-5FE8-41CB-9F99-763CEBF6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F6E9-3C11-4344-9DDB-82B57146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7422C-7FD1-4408-B314-09ADFD6B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AF3CB-C05F-4732-8B29-DDC53909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CE520-01FD-4B15-BB51-29EE860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1E725-9F63-4E2E-8D62-5E34883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0874D-251B-4C27-BB7C-ADD6FE19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32F78-B843-4B54-AD17-4CCC4AD6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584920-CCC2-4597-A1A7-C3402BA0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15523-5289-41C6-A4DC-70A79B5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A818E-DE6B-4889-B516-DE9344E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01662-0E48-4E09-848F-DDB4DBD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2065-93B2-48E3-A97F-27773841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B74D4-54C0-48BA-848A-098ABB6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5A69E-8C47-40A7-84A5-8E444689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44333-FF76-43F3-99EE-8296357D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33538-A8CF-49B8-98CE-B4391523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7F5B3C-5180-47B4-9196-1AC2091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2FBDBF-5CF9-4544-A0E2-49283607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8B3DF-A401-4C59-8389-F00FF71B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F9455-CDC3-47AF-94BC-B235B9D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6F72EE-5B94-47F3-93D4-F4EE25A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28769-A517-423C-BDA8-A6B6D4E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344F-C6C5-4FC5-B25D-8043C84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D12CA6-6198-4F79-9DDD-4D4191F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1B36E-13FE-4E0C-8297-9957383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16455-2D81-4F10-8CCA-E78EFD7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E52858-D891-48E2-8302-997BEE85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0AAB7-8885-400C-BE04-4B1DCC64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86749-DF05-4CEC-AF42-858691F9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52F7A-FCE6-4C23-AED9-3BFA1D1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01F052-DA99-4EBD-8FE0-BA559464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C8437-53C5-4B1A-8F56-CF47776C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47BECD-409F-4BC2-94DE-4A35D4F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9B3A-F69C-4226-9587-F3B433B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84EAD-2BBA-468E-A473-6717FA6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14D41-B5FA-42E0-8EAB-07BBA682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E1381-4C82-4122-AD04-DE286DB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E8948-4D93-4FEB-AF35-E9B8D1D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38CBAE-DCB6-41FF-ACA7-67EE2E9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1BC73-D979-442B-BD23-923B93BC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F6424F-B4EC-4D18-A2EC-930C0DE6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5DB17-F1B9-469A-BD16-CF81101F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0C324-15C8-45DC-ADBA-6F6FA856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2AEB1-9282-468A-821F-F16B3E1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00BC-FD22-43E7-A4C9-A5CBCD77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69999C-2ADF-4F47-B223-5D315882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8134C-14E2-4701-86CB-996058A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C0871-F442-4C45-8331-B27ECE0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5893CE-F7E8-4804-84C3-099CB27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B96637-532B-48A9-A072-60B7C37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69B15D-FCA9-4CCF-BA4B-AAC407C5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C4E3D-D4A5-4CF6-8213-83AA4EB7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59A11-CDC0-4923-8A3D-7468A9D1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65540-D259-41E3-8327-B997A9BD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C263-B052-4BEA-BCB1-56DA0950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78C-2086-4F75-B9E5-88D2E0A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6662-8F47-4104-BB12-62BD43F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A722-80DC-4685-925A-1A7DF1C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EE40-01AF-4D01-9AD1-6F29303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0D32-F872-4133-AE2C-05C082E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3287-27BF-42D5-82C3-51E7D5D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9F6F-FC62-4D9D-8505-213F2B1A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2DAF-7F5B-4F01-B96C-0FAF3CB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360A-42AF-4112-9094-33C39A06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EA53-2A60-4CC8-9306-D7F72BD6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69D1-197A-4D41-8987-0D45CCB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E11-B92E-4478-BC49-64F0D6E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C3CC-FBA4-447F-A362-730F2E5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1F0B-EFEA-40B1-AFC9-7EE994C2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453F-280E-472B-883F-2C62B8E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434F-8EA9-4682-999B-2E07ABC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D8A1-006A-44B4-8F6E-FE8B6D9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07C11-3244-4BB7-9119-C4615C6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61E3-3063-455F-A29A-4B2E8FD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0C3D-29C2-480C-9174-0D1BE27E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72BE-4127-43CF-9C1C-7409AAA6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34CE-F23C-4391-8FA9-8EFC36C1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5C6-43D0-47AD-9EC6-728D0A0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35D7-2F57-4B21-AD3B-B5A5FD7B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D2B4-9C57-4DEA-A72A-FC25F110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7899-1D7A-44FE-B8E5-551B206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38DF-36E0-4072-A60F-9CD283A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5336-007F-47A9-9750-CD814B5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5D23-74B8-48ED-A19F-7C98A82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084C-0FC2-4778-BDFD-5EB7EBC3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0F44-6D2A-4AE2-B734-F4CFBE3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E100-B3D7-4405-BBA7-08F338F4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983F-00C2-4904-8C23-C7E03AEB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DB8-9ECA-4CD8-B7CC-838476B9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B73A-7662-44F9-B297-E2EA8C56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187D-BB91-4C4D-8C57-F8A58217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008A5-1151-474A-AA30-9C16FC2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55BF-424F-4FA8-9DAC-4B6C54B8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0F23-AFE3-4912-870A-BD96C7AF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2B4E-3161-4CB9-95A7-F860F3B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EF85-9111-4A17-84D8-4276FF7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97B6-E7DA-4635-80F7-250C4C8A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3B21-B862-41D8-9081-DCA7B4F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B020-EC18-4F8D-95B3-02912AF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0E4-EA5E-4E2A-A788-3D99C19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9720-2A8F-4D77-8E24-03EC798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36C0-666A-4868-9A43-D75D8DAB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1378-FFE4-4056-925A-46FF1E32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EF33-D884-48D4-B2F0-F2C76555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6965-83E2-4C52-BE62-A1407C6D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EB7A-F35E-4601-9781-CCB15E8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0DC4-74D6-4D1C-AF5E-8C60294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0BB2-E9F8-490D-9017-D83E00A8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63C1-08B1-42FC-9905-79598EA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7FD3-53A2-4D2A-8509-12C7DB6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E87-2392-4563-9B9B-B2C6141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4A2C-9830-41E7-88DE-45E6828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882C-36DC-453E-BCB7-27DE03C5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0910-9C05-4F67-BA48-E836AD1B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FA46-3E1E-4496-AFA2-BC83D1D4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6621-D38A-4218-95D9-53354F5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6D90F-F790-402D-B5F1-DF504E0B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EDAF-EF96-4566-8963-169F26C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EE11-B94F-4EC5-9F3C-E3327CC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F92C-0033-4CAB-8CE7-43CD3EBA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F437-1A0C-4B4B-B1EF-1EAD85F2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426-728A-4E81-A01B-EEB1B5F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A9A5C-FFD0-4645-8C45-B4E3E47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92F9-E0EE-4349-84FC-98A621A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443D3-D3DC-4A99-84C2-75403DD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FA0A-A7E8-47DF-A5B0-AA5D18C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04F0-9491-40A0-B6A6-797FF0D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FE22-BF2D-4679-AA3B-5C010FA4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8162-345C-4246-BFCF-1B9B729F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76331-63E1-449F-B829-2AF99538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5A13E-F8DE-494E-A552-2E86EFE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FE1A3-7B0F-4878-901E-579669D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179-D99F-463C-9D10-54B5BC3A76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E93A-82C7-4B6F-AEB6-1A629D4A8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E000-B524-4909-B2FB-EC5BA3F58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F604-63A7-4D16-A83B-E250572D0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51F-D772-4C72-AB18-BDDCC1AFDA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4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02C7-DBBE-448F-9070-B1D1314E662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116-7D18-4E77-9365-04940E9934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620-4F12-433D-B9C8-66828F22E54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6A3-DB7C-4D07-B8FB-B9E40D22BBD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D6A6-F5EC-4A1B-AEFE-DC9EC161570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0E46-3D8F-4ABE-B8B5-EA81BC17184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D890-CD04-4C83-8EF6-AA1C6816E18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325-DE66-4A3F-8D07-99216AADA47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F7A-E187-48B2-86FA-3422A777AA0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E94-BF21-4AEA-A698-5F782CA7B2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DC2-DCD8-4FCD-B654-CE5F2140439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9549-D4D3-4A30-9732-9D72976466A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FCA-870D-4B3E-A6F5-2EAD3EBCC5D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1BE-6894-4D00-992E-67E5FD637F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C63-ED10-4FE4-A925-AA3DF6CF8AE8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FFFC-2AFA-42C9-B7F6-71E231E479B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A40-F545-4A5B-A52F-FBEA4A23C07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1811-FD99-46F4-9382-0B26A33763A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719-9EEA-4067-B587-653F1C8F51E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836-0C79-4BA4-BC90-2640F41C898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932-AEAA-4FF8-AB18-234B45BEA1F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DB8C-FFFD-4F44-B8DD-ADD86D3B80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18C5-8B6D-43E4-93D3-ADF16E8C0CD8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32F-5484-4587-963F-445BD1C595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6B73-2018-4E73-B11D-63C5A9BA7F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A3B-C06E-4478-800C-3DBC1649B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8BD-61EB-4BD0-9278-C2CF3FB0F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8818-8851-4FDD-BC35-A2F0084ED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908-8D97-4C70-879C-A99754CB8A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885F-E669-4134-BBA1-9CEB51528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76C-E37E-41B5-9023-C4F6379E11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3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4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265,3,&#24187;&#28783;&#29255; 3" TargetMode="External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2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62465" descr="人生果1"/>
          <p:cNvPicPr/>
          <p:nvPr/>
        </p:nvPicPr>
        <p:blipFill>
          <a:blip r:embed="rId1"/>
          <a:srcRect l="0" t="0" r="-257" b="8509"/>
          <a:stretch/>
        </p:blipFill>
        <p:spPr>
          <a:xfrm>
            <a:off x="0" y="3276720"/>
            <a:ext cx="4800600" cy="327636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62467"/>
          <p:cNvSpPr/>
          <p:nvPr/>
        </p:nvSpPr>
        <p:spPr>
          <a:xfrm>
            <a:off x="4788000" y="3429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生果（人参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62468"/>
          <p:cNvSpPr/>
          <p:nvPr/>
        </p:nvSpPr>
        <p:spPr>
          <a:xfrm>
            <a:off x="4932360" y="4076640"/>
            <a:ext cx="421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人参果是一种原产于国武威地区的水果，富含蛋白质、维生素与矿物元素，具有保健功效。我国四大名著之一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2"/>
              </a:rPr>
              <a:t>《</a:t>
            </a:r>
            <a:r>
              <a:rPr b="0" lang="zh-CN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3"/>
              </a:rPr>
              <a:t>西游记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4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提及此果并加入了神话色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62470" descr="df630c76gx6CxdvjPGl05&amp;690"/>
          <p:cNvPicPr/>
          <p:nvPr/>
        </p:nvPicPr>
        <p:blipFill>
          <a:blip r:embed="rId5"/>
          <a:stretch/>
        </p:blipFill>
        <p:spPr>
          <a:xfrm>
            <a:off x="228600" y="380880"/>
            <a:ext cx="86868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52577" descr="16813359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1051" name="文本框 152578"/>
          <p:cNvSpPr/>
          <p:nvPr/>
        </p:nvSpPr>
        <p:spPr>
          <a:xfrm>
            <a:off x="395280" y="4889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流光溢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52579"/>
          <p:cNvSpPr/>
          <p:nvPr/>
        </p:nvSpPr>
        <p:spPr>
          <a:xfrm>
            <a:off x="1403280" y="486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流动的光影，满溢的色彩。形容色彩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152580"/>
          <p:cNvSpPr/>
          <p:nvPr/>
        </p:nvSpPr>
        <p:spPr>
          <a:xfrm>
            <a:off x="39528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眼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152581"/>
          <p:cNvSpPr/>
          <p:nvPr/>
        </p:nvSpPr>
        <p:spPr>
          <a:xfrm>
            <a:off x="1690560" y="765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看得到而得不到，令人羡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152582"/>
          <p:cNvSpPr/>
          <p:nvPr/>
        </p:nvSpPr>
        <p:spPr>
          <a:xfrm>
            <a:off x="395280" y="256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津津有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52583"/>
          <p:cNvSpPr/>
          <p:nvPr/>
        </p:nvSpPr>
        <p:spPr>
          <a:xfrm>
            <a:off x="1403280" y="26384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指吃得很有味道或谈得很有兴趣。文中指看画片时非常有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52584"/>
          <p:cNvSpPr/>
          <p:nvPr/>
        </p:nvSpPr>
        <p:spPr>
          <a:xfrm>
            <a:off x="395280" y="13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52585"/>
          <p:cNvSpPr/>
          <p:nvPr/>
        </p:nvSpPr>
        <p:spPr>
          <a:xfrm>
            <a:off x="1692360" y="1341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一首。阙，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52586"/>
          <p:cNvSpPr/>
          <p:nvPr/>
        </p:nvSpPr>
        <p:spPr>
          <a:xfrm>
            <a:off x="395280" y="1924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饱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52587"/>
          <p:cNvSpPr/>
          <p:nvPr/>
        </p:nvSpPr>
        <p:spPr>
          <a:xfrm>
            <a:off x="1692360" y="19242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尽情地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152588"/>
          <p:cNvSpPr/>
          <p:nvPr/>
        </p:nvSpPr>
        <p:spPr>
          <a:xfrm>
            <a:off x="396720" y="37180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醉如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52589"/>
          <p:cNvSpPr/>
          <p:nvPr/>
        </p:nvSpPr>
        <p:spPr>
          <a:xfrm>
            <a:off x="1187280" y="38037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神态失常，失去自制。文中指作者读书读到入迷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wind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53601" descr="168133592"/>
          <p:cNvPicPr/>
          <p:nvPr/>
        </p:nvPicPr>
        <p:blipFill>
          <a:blip r:embed="rId1"/>
          <a:stretch/>
        </p:blipFill>
        <p:spPr>
          <a:xfrm>
            <a:off x="179280" y="4046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064" name="文本框 153602"/>
          <p:cNvSpPr/>
          <p:nvPr/>
        </p:nvSpPr>
        <p:spPr>
          <a:xfrm>
            <a:off x="39528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悲欢离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53603"/>
          <p:cNvSpPr/>
          <p:nvPr/>
        </p:nvSpPr>
        <p:spPr>
          <a:xfrm>
            <a:off x="1332000" y="2708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悲伤、欢乐、离散、聚会。泛指生活中经历的各种境遇和由此产生的各种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53604"/>
          <p:cNvSpPr/>
          <p:nvPr/>
        </p:nvSpPr>
        <p:spPr>
          <a:xfrm>
            <a:off x="395280" y="62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浮想联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153605"/>
          <p:cNvSpPr/>
          <p:nvPr/>
        </p:nvSpPr>
        <p:spPr>
          <a:xfrm>
            <a:off x="1403280" y="69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浮想：飘浮不定的想象；联翩：鸟飞的样子，比喻连续不断。指许许多多的想象不断涌现出来。文中指作者读书进入意境，产生联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153606"/>
          <p:cNvSpPr/>
          <p:nvPr/>
        </p:nvSpPr>
        <p:spPr>
          <a:xfrm>
            <a:off x="39528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牵肠挂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153607"/>
          <p:cNvSpPr/>
          <p:nvPr/>
        </p:nvSpPr>
        <p:spPr>
          <a:xfrm>
            <a:off x="1332000" y="529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牵：拉。形容十分惦念，放心不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53608"/>
          <p:cNvSpPr/>
          <p:nvPr/>
        </p:nvSpPr>
        <p:spPr>
          <a:xfrm>
            <a:off x="324000" y="4149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饥似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53609"/>
          <p:cNvSpPr/>
          <p:nvPr/>
        </p:nvSpPr>
        <p:spPr>
          <a:xfrm>
            <a:off x="1405080" y="421956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要求很迫切，好象饿了急着要吃饭，渴了急着要喝水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54625" descr="168133592"/>
          <p:cNvPicPr/>
          <p:nvPr/>
        </p:nvPicPr>
        <p:blipFill>
          <a:blip r:embed="rId1"/>
          <a:stretch/>
        </p:blipFill>
        <p:spPr>
          <a:xfrm>
            <a:off x="179280" y="4046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073" name="文本框 154626"/>
          <p:cNvSpPr/>
          <p:nvPr/>
        </p:nvSpPr>
        <p:spPr>
          <a:xfrm>
            <a:off x="395280" y="29383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篇一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54627"/>
          <p:cNvSpPr/>
          <p:nvPr/>
        </p:nvSpPr>
        <p:spPr>
          <a:xfrm>
            <a:off x="1332000" y="30099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一千篇文章都一个样。文中指文章公式化，非常机械、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54628"/>
          <p:cNvSpPr/>
          <p:nvPr/>
        </p:nvSpPr>
        <p:spPr>
          <a:xfrm>
            <a:off x="395280" y="22827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黯然神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154629"/>
          <p:cNvSpPr/>
          <p:nvPr/>
        </p:nvSpPr>
        <p:spPr>
          <a:xfrm>
            <a:off x="2484360" y="23446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神情不愉快，无精打采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154630"/>
          <p:cNvSpPr/>
          <p:nvPr/>
        </p:nvSpPr>
        <p:spPr>
          <a:xfrm>
            <a:off x="395280" y="40910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显身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154631"/>
          <p:cNvSpPr/>
          <p:nvPr/>
        </p:nvSpPr>
        <p:spPr>
          <a:xfrm>
            <a:off x="1332000" y="40910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显：表露，表现；身手：指本领。充分显示出本领和才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54632"/>
          <p:cNvSpPr/>
          <p:nvPr/>
        </p:nvSpPr>
        <p:spPr>
          <a:xfrm>
            <a:off x="39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心安理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54633"/>
          <p:cNvSpPr/>
          <p:nvPr/>
        </p:nvSpPr>
        <p:spPr>
          <a:xfrm>
            <a:off x="1405080" y="522936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适合。自以为做的事情合乎道理，心里很坦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54634"/>
          <p:cNvSpPr/>
          <p:nvPr/>
        </p:nvSpPr>
        <p:spPr>
          <a:xfrm>
            <a:off x="396720" y="1197000"/>
            <a:ext cx="26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言而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54635"/>
          <p:cNvSpPr/>
          <p:nvPr/>
        </p:nvSpPr>
        <p:spPr>
          <a:xfrm>
            <a:off x="1187280" y="12826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喻：了解，明白。不用说话就能明白。形容道理很明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154636"/>
          <p:cNvSpPr/>
          <p:nvPr/>
        </p:nvSpPr>
        <p:spPr>
          <a:xfrm>
            <a:off x="395280" y="6271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长日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154637"/>
          <p:cNvSpPr/>
          <p:nvPr/>
        </p:nvSpPr>
        <p:spPr>
          <a:xfrm>
            <a:off x="2627280" y="6890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长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wind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166913"/>
          <p:cNvSpPr txBox="1"/>
          <p:nvPr/>
        </p:nvSpPr>
        <p:spPr>
          <a:xfrm>
            <a:off x="1425600" y="914400"/>
            <a:ext cx="6411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红字、词选择正确的解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6" name="矩形 166914"/>
          <p:cNvSpPr txBox="1"/>
          <p:nvPr/>
        </p:nvSpPr>
        <p:spPr>
          <a:xfrm>
            <a:off x="1603440" y="2057400"/>
            <a:ext cx="160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不言而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7" name="矩形 166915"/>
          <p:cNvSpPr txBox="1"/>
          <p:nvPr/>
        </p:nvSpPr>
        <p:spPr>
          <a:xfrm>
            <a:off x="3325680" y="205740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喻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8" name="矩形 166916"/>
          <p:cNvSpPr txBox="1"/>
          <p:nvPr/>
        </p:nvSpPr>
        <p:spPr>
          <a:xfrm>
            <a:off x="4630680" y="2133720"/>
            <a:ext cx="320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比喻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明白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9" name="矩形 166917"/>
          <p:cNvSpPr txBox="1"/>
          <p:nvPr/>
        </p:nvSpPr>
        <p:spPr>
          <a:xfrm>
            <a:off x="1603440" y="2895480"/>
            <a:ext cx="207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呕心  血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0" name="矩形 166918"/>
          <p:cNvSpPr txBox="1"/>
          <p:nvPr/>
        </p:nvSpPr>
        <p:spPr>
          <a:xfrm>
            <a:off x="2968560" y="289548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沥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1" name="矩形 166919"/>
          <p:cNvSpPr txBox="1"/>
          <p:nvPr/>
        </p:nvSpPr>
        <p:spPr>
          <a:xfrm>
            <a:off x="4630680" y="2971800"/>
            <a:ext cx="314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滴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过滤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2" name="矩形 166920"/>
          <p:cNvSpPr txBox="1"/>
          <p:nvPr/>
        </p:nvSpPr>
        <p:spPr>
          <a:xfrm>
            <a:off x="1662120" y="3657600"/>
            <a:ext cx="196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流光  彩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3" name="矩形 166921"/>
          <p:cNvSpPr txBox="1"/>
          <p:nvPr/>
        </p:nvSpPr>
        <p:spPr>
          <a:xfrm>
            <a:off x="2909880" y="365760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溢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4" name="矩形 166922"/>
          <p:cNvSpPr txBox="1"/>
          <p:nvPr/>
        </p:nvSpPr>
        <p:spPr>
          <a:xfrm>
            <a:off x="4630680" y="3657600"/>
            <a:ext cx="421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过分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充满而流出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5" name="矩形 166923"/>
          <p:cNvSpPr txBox="1"/>
          <p:nvPr/>
        </p:nvSpPr>
        <p:spPr>
          <a:xfrm>
            <a:off x="1662120" y="4419720"/>
            <a:ext cx="196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    吞枣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6" name="矩形 166924"/>
          <p:cNvSpPr txBox="1"/>
          <p:nvPr/>
        </p:nvSpPr>
        <p:spPr>
          <a:xfrm>
            <a:off x="2136600" y="4419720"/>
            <a:ext cx="71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囫囵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7" name="矩形 166925"/>
          <p:cNvSpPr txBox="1"/>
          <p:nvPr/>
        </p:nvSpPr>
        <p:spPr>
          <a:xfrm>
            <a:off x="4630680" y="4419720"/>
            <a:ext cx="4513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整个的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狼吞虎咽的样子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8" name="矩形 166926"/>
          <p:cNvSpPr txBox="1"/>
          <p:nvPr/>
        </p:nvSpPr>
        <p:spPr>
          <a:xfrm>
            <a:off x="1722600" y="5181480"/>
            <a:ext cx="106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大显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9" name="矩形 166927"/>
          <p:cNvSpPr txBox="1"/>
          <p:nvPr/>
        </p:nvSpPr>
        <p:spPr>
          <a:xfrm>
            <a:off x="2909880" y="5181480"/>
            <a:ext cx="71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身手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0" name="矩形 166928"/>
          <p:cNvSpPr txBox="1"/>
          <p:nvPr/>
        </p:nvSpPr>
        <p:spPr>
          <a:xfrm>
            <a:off x="4630680" y="5181480"/>
            <a:ext cx="320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本领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身和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黑体"/>
              </a:rPr>
              <a:t>给课文分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段（第一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开篇点题，总写书是人类文明的“长生果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--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写我童年快乐的读书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段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--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写课外书籍给了“我”许多营养，特别是对“我”的作文有很大的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wind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自读课文，思考问题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我的“长生果”指的是什么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长生果指吃了可以使人长生不老的果子，这里指营养极其丰富。作者将书比喻为“长生果”，意思是书是人类的精神食量，充分表达了书与人类发展的关系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者写了童年读书、作文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图片 21507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1079640" cy="134784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21508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WordArt 2"/>
          <p:cNvSpPr txBox="1"/>
          <p:nvPr/>
        </p:nvSpPr>
        <p:spPr>
          <a:xfrm>
            <a:off x="1287360" y="3286080"/>
            <a:ext cx="78566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速读课文，把作者在什么时间，什么地点，读了哪些书填写在下面的表格里。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8" name="WordArt 3"/>
          <p:cNvSpPr txBox="1"/>
          <p:nvPr/>
        </p:nvSpPr>
        <p:spPr>
          <a:xfrm>
            <a:off x="1733400" y="857160"/>
            <a:ext cx="69580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？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55680" y="685800"/>
            <a:ext cx="831600" cy="514224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5"/>
          <p:cNvSpPr/>
          <p:nvPr/>
        </p:nvSpPr>
        <p:spPr>
          <a:xfrm>
            <a:off x="1343160" y="185868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457200" y="228600"/>
          <a:ext cx="830592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2057400"/>
                <a:gridCol w="2362320"/>
              </a:tblGrid>
              <a:tr h="7329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书  生  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书 情 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  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2" name=""/>
          <p:cNvGraphicFramePr/>
          <p:nvPr/>
        </p:nvGraphicFramePr>
        <p:xfrm>
          <a:off x="457200" y="304920"/>
          <a:ext cx="8305920" cy="671508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2057400"/>
                <a:gridCol w="2362320"/>
              </a:tblGrid>
              <a:tr h="7131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书  生  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书 情 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  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学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街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画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饱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    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连环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痴迷  迷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    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镇上文化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文艺书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囫囵吞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牵肠挂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初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校图书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大部头小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如痴如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75777"/>
          <p:cNvSpPr/>
          <p:nvPr/>
        </p:nvSpPr>
        <p:spPr>
          <a:xfrm>
            <a:off x="517680" y="249120"/>
            <a:ext cx="550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380880" y="380880"/>
          <a:ext cx="8305920" cy="6210360"/>
        </p:xfrm>
        <a:graphic>
          <a:graphicData uri="http://schemas.openxmlformats.org/drawingml/2006/table">
            <a:tbl>
              <a:tblPr/>
              <a:tblGrid>
                <a:gridCol w="2131920"/>
                <a:gridCol w="3143520"/>
                <a:gridCol w="3030480"/>
              </a:tblGrid>
              <a:tr h="68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写作事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所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得到报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功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扩展想象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效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秋天来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切身体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构思要别出心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图片 6349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矩形 63489"/>
          <p:cNvSpPr txBox="1"/>
          <p:nvPr/>
        </p:nvSpPr>
        <p:spPr>
          <a:xfrm>
            <a:off x="1752480" y="1219320"/>
            <a:ext cx="5715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的长生果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004" name="图片 63490" descr="gezi"/>
          <p:cNvPicPr/>
          <p:nvPr/>
        </p:nvPicPr>
        <p:blipFill>
          <a:blip r:embed="rId2"/>
          <a:stretch/>
        </p:blipFill>
        <p:spPr>
          <a:xfrm>
            <a:off x="304920" y="9144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005" name="图片 63491" descr="gezi"/>
          <p:cNvPicPr/>
          <p:nvPr/>
        </p:nvPicPr>
        <p:blipFill>
          <a:blip r:embed="rId3"/>
          <a:stretch/>
        </p:blipFill>
        <p:spPr>
          <a:xfrm>
            <a:off x="1219320" y="12193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文本框 76801"/>
          <p:cNvSpPr/>
          <p:nvPr/>
        </p:nvSpPr>
        <p:spPr>
          <a:xfrm>
            <a:off x="517680" y="249120"/>
            <a:ext cx="550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304920" y="0"/>
          <a:ext cx="8610480" cy="6494400"/>
        </p:xfrm>
        <a:graphic>
          <a:graphicData uri="http://schemas.openxmlformats.org/drawingml/2006/table">
            <a:tbl>
              <a:tblPr/>
              <a:tblGrid>
                <a:gridCol w="2211480"/>
                <a:gridCol w="3257280"/>
                <a:gridCol w="3141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写作事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所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得到报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养成良好习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功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扩展想象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增强理解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效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秋天来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件不愉快的往事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切身体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构思要别出心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写真情实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文本框 145409"/>
          <p:cNvSpPr/>
          <p:nvPr/>
        </p:nvSpPr>
        <p:spPr>
          <a:xfrm>
            <a:off x="228600" y="1066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作者写了少年时代读书和写作的哪几件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45410"/>
          <p:cNvSpPr/>
          <p:nvPr/>
        </p:nvSpPr>
        <p:spPr>
          <a:xfrm>
            <a:off x="1066680" y="1828800"/>
            <a:ext cx="3733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看“香烟人”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小画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看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文化站读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文艺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图书馆读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中外名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两次写作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45411"/>
          <p:cNvSpPr/>
          <p:nvPr/>
        </p:nvSpPr>
        <p:spPr>
          <a:xfrm>
            <a:off x="5410080" y="1752480"/>
            <a:ext cx="274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津津有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如醉如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牵肠挂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如醉如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大显身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9d8ec"/>
                </a:solidFill>
                <a:latin typeface="Arial"/>
              </a:rPr>
              <a:t>细读课文，深入理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矩形 156673"/>
          <p:cNvSpPr txBox="1"/>
          <p:nvPr/>
        </p:nvSpPr>
        <p:spPr>
          <a:xfrm>
            <a:off x="3276720" y="836640"/>
            <a:ext cx="2743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回忆读书生活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22" name="图片 156674" descr="香烟画片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091040"/>
          </a:xfrm>
          <a:prstGeom prst="rect">
            <a:avLst/>
          </a:prstGeom>
          <a:ln w="0">
            <a:noFill/>
          </a:ln>
        </p:spPr>
      </p:pic>
      <p:sp>
        <p:nvSpPr>
          <p:cNvPr id="1123" name="文本框 156675"/>
          <p:cNvSpPr/>
          <p:nvPr/>
        </p:nvSpPr>
        <p:spPr>
          <a:xfrm>
            <a:off x="2050920" y="5734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我的最早读物：</a:t>
            </a:r>
            <a:r>
              <a:rPr b="1" lang="zh-CN" sz="2800" spc="-1" strike="noStrike">
                <a:solidFill>
                  <a:srgbClr val="d9d8ec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香烟人</a:t>
            </a:r>
            <a:r>
              <a:rPr b="1" lang="zh-CN" sz="2800" spc="-1" strike="noStrike">
                <a:solidFill>
                  <a:srgbClr val="d9d8ec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画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wind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57697" descr="连环画"/>
          <p:cNvPicPr/>
          <p:nvPr/>
        </p:nvPicPr>
        <p:blipFill>
          <a:blip r:embed="rId1"/>
          <a:stretch/>
        </p:blipFill>
        <p:spPr>
          <a:xfrm>
            <a:off x="971640" y="1052640"/>
            <a:ext cx="3529080" cy="45450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157698" descr="连环画1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4535280"/>
          </a:xfrm>
          <a:prstGeom prst="rect">
            <a:avLst/>
          </a:prstGeom>
          <a:ln w="0">
            <a:noFill/>
          </a:ln>
        </p:spPr>
      </p:pic>
      <p:sp>
        <p:nvSpPr>
          <p:cNvPr id="1126" name="文本框 157699"/>
          <p:cNvSpPr/>
          <p:nvPr/>
        </p:nvSpPr>
        <p:spPr>
          <a:xfrm>
            <a:off x="2916360" y="5661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上学后：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3" name="wind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58721" descr="文艺书籍"/>
          <p:cNvPicPr/>
          <p:nvPr/>
        </p:nvPicPr>
        <p:blipFill>
          <a:blip r:embed="rId1"/>
          <a:stretch/>
        </p:blipFill>
        <p:spPr>
          <a:xfrm>
            <a:off x="4908600" y="1125360"/>
            <a:ext cx="2736720" cy="4104000"/>
          </a:xfrm>
          <a:prstGeom prst="rect">
            <a:avLst/>
          </a:prstGeom>
          <a:ln w="0">
            <a:noFill/>
          </a:ln>
        </p:spPr>
      </p:pic>
      <p:sp>
        <p:nvSpPr>
          <p:cNvPr id="1128" name="文本框 158722"/>
          <p:cNvSpPr/>
          <p:nvPr/>
        </p:nvSpPr>
        <p:spPr>
          <a:xfrm>
            <a:off x="3419640" y="558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书店：文艺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图片 158723" descr="平凡的世界"/>
          <p:cNvPicPr/>
          <p:nvPr/>
        </p:nvPicPr>
        <p:blipFill>
          <a:blip r:embed="rId2"/>
          <a:stretch/>
        </p:blipFill>
        <p:spPr>
          <a:xfrm>
            <a:off x="1476360" y="1125360"/>
            <a:ext cx="2975040" cy="4105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59745" descr="茶花女"/>
          <p:cNvPicPr/>
          <p:nvPr/>
        </p:nvPicPr>
        <p:blipFill>
          <a:blip r:embed="rId1"/>
          <a:stretch/>
        </p:blipFill>
        <p:spPr>
          <a:xfrm>
            <a:off x="1619280" y="1341360"/>
            <a:ext cx="2797200" cy="417672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159746" descr="呼啸山庄"/>
          <p:cNvPicPr/>
          <p:nvPr/>
        </p:nvPicPr>
        <p:blipFill>
          <a:blip r:embed="rId2"/>
          <a:stretch/>
        </p:blipFill>
        <p:spPr>
          <a:xfrm>
            <a:off x="5219640" y="1557360"/>
            <a:ext cx="2509920" cy="3816360"/>
          </a:xfrm>
          <a:prstGeom prst="rect">
            <a:avLst/>
          </a:prstGeom>
          <a:ln w="0">
            <a:noFill/>
          </a:ln>
        </p:spPr>
      </p:pic>
      <p:sp>
        <p:nvSpPr>
          <p:cNvPr id="1132" name="文本框 159747"/>
          <p:cNvSpPr/>
          <p:nvPr/>
        </p:nvSpPr>
        <p:spPr>
          <a:xfrm>
            <a:off x="2627280" y="566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图书馆：中外名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5"/>
          <p:cNvSpPr/>
          <p:nvPr/>
        </p:nvSpPr>
        <p:spPr>
          <a:xfrm>
            <a:off x="1398600" y="285840"/>
            <a:ext cx="732960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书对作者产生了什么影响？你是从哪里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55320" y="685800"/>
            <a:ext cx="950760" cy="411480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组探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"/>
          <p:cNvSpPr/>
          <p:nvPr/>
        </p:nvSpPr>
        <p:spPr>
          <a:xfrm>
            <a:off x="1231920" y="142884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越读书越爱读书，对读书的渴望越来越强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读书使“我”对文学产生了越来越浓厚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3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扩展了“我”的想象力，提高了“我”的作文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31920" y="3000240"/>
            <a:ext cx="48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作文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秋天来了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众不同（新颖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一件不愉快的往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真情感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6297480" y="3071880"/>
            <a:ext cx="20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长生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滋养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5740560" y="3143160"/>
            <a:ext cx="6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宋体"/>
                <a:ea typeface="宋体"/>
              </a:rPr>
              <a:t>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7"/>
          <p:cNvSpPr/>
          <p:nvPr/>
        </p:nvSpPr>
        <p:spPr>
          <a:xfrm>
            <a:off x="1398600" y="450072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是怎样读这些书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9"/>
          <p:cNvSpPr/>
          <p:nvPr/>
        </p:nvSpPr>
        <p:spPr>
          <a:xfrm>
            <a:off x="341280" y="514368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 津津有味、如醉如痴、牵肠挂肚、念念不忘、如饥似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文本框 49153"/>
          <p:cNvSpPr/>
          <p:nvPr/>
        </p:nvSpPr>
        <p:spPr>
          <a:xfrm>
            <a:off x="2350440" y="449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两次写作文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49154"/>
          <p:cNvSpPr txBox="1"/>
          <p:nvPr/>
        </p:nvSpPr>
        <p:spPr>
          <a:xfrm>
            <a:off x="685800" y="1219320"/>
            <a:ext cx="13716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先写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3" name="文本框 49155"/>
          <p:cNvSpPr/>
          <p:nvPr/>
        </p:nvSpPr>
        <p:spPr>
          <a:xfrm>
            <a:off x="3076200" y="1263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秋天来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49156"/>
          <p:cNvSpPr txBox="1"/>
          <p:nvPr/>
        </p:nvSpPr>
        <p:spPr>
          <a:xfrm>
            <a:off x="304920" y="22096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千篇一律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5" name="矩形 49157"/>
          <p:cNvSpPr txBox="1"/>
          <p:nvPr/>
        </p:nvSpPr>
        <p:spPr>
          <a:xfrm>
            <a:off x="611280" y="3500280"/>
            <a:ext cx="16002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6" name="文本框 49158"/>
          <p:cNvSpPr/>
          <p:nvPr/>
        </p:nvSpPr>
        <p:spPr>
          <a:xfrm>
            <a:off x="3929400" y="558972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道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作文构思要别出心裁；落笔与众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49159"/>
          <p:cNvSpPr/>
          <p:nvPr/>
        </p:nvSpPr>
        <p:spPr>
          <a:xfrm>
            <a:off x="3893040" y="215280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天来了，树叶黄了，一片一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飘到了地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49160"/>
          <p:cNvSpPr/>
          <p:nvPr/>
        </p:nvSpPr>
        <p:spPr>
          <a:xfrm>
            <a:off x="3831840" y="3232080"/>
            <a:ext cx="359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天比作一个穿着金色衣裙的仙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那轻飘的衣袖拂去了太阳的焦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明亮和清爽撒给大地；她用宽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衣衫挡着风寒，却捧起沉甸甸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奉献人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文本框 50177"/>
          <p:cNvSpPr/>
          <p:nvPr/>
        </p:nvSpPr>
        <p:spPr>
          <a:xfrm>
            <a:off x="3734640" y="333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第二次写作：一件不愉快的往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50178"/>
          <p:cNvSpPr/>
          <p:nvPr/>
        </p:nvSpPr>
        <p:spPr>
          <a:xfrm>
            <a:off x="66996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50179"/>
          <p:cNvSpPr/>
          <p:nvPr/>
        </p:nvSpPr>
        <p:spPr>
          <a:xfrm>
            <a:off x="3712320" y="1413000"/>
            <a:ext cx="142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我从一个清冷的黄昏开始写，以月亮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丽皎洁和周围人的嬉笑，来反衬一个受委屈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孤独和寂寞。写着写着，我禁不住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泪花花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PMingLi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50180"/>
          <p:cNvSpPr/>
          <p:nvPr/>
        </p:nvSpPr>
        <p:spPr>
          <a:xfrm>
            <a:off x="4313520" y="36590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月亮像一轮玉盘嵌在蓝色的天幕中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50181"/>
          <p:cNvSpPr txBox="1"/>
          <p:nvPr/>
        </p:nvSpPr>
        <p:spPr>
          <a:xfrm>
            <a:off x="395280" y="4724280"/>
            <a:ext cx="93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道理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4" name="文本框 50182"/>
          <p:cNvSpPr/>
          <p:nvPr/>
        </p:nvSpPr>
        <p:spPr>
          <a:xfrm>
            <a:off x="273276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PMingLiU"/>
              </a:rPr>
              <a:t>真情实感才能打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积累、体会文中精彩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1000080" y="1143000"/>
            <a:ext cx="7143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作文，首先构思要别出心裁，落笔也要有点与众不同的鲜味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假如不是读过几百部真正的小说，我决不可能写出那八百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社会人生这部深奥绵长的大书，我什么时候才能读懂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文本框 81921"/>
          <p:cNvSpPr/>
          <p:nvPr/>
        </p:nvSpPr>
        <p:spPr>
          <a:xfrm>
            <a:off x="2664000" y="779400"/>
            <a:ext cx="632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叶文玲，当代女作家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4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月４日生于浙江省玉环县楚门镇。１９５８年发表处女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和雪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从此走上文坛，后以短篇小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心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名闻遐迩。她恪守“美是文学的生命”的宗旨，孜孜于真善美的追求，同时致力于散文创作，收获颇丰。至今已有６００多万字３６本作品集及一部８卷本文集出版；是中国当代文坛极为勤奋很有影响的作家，其作品曾获多种奖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图片 81922" descr="W020071030376160002083"/>
          <p:cNvPicPr/>
          <p:nvPr/>
        </p:nvPicPr>
        <p:blipFill>
          <a:blip r:embed="rId1"/>
          <a:stretch/>
        </p:blipFill>
        <p:spPr>
          <a:xfrm>
            <a:off x="0" y="1447920"/>
            <a:ext cx="256860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文本框 87041"/>
          <p:cNvSpPr/>
          <p:nvPr/>
        </p:nvSpPr>
        <p:spPr>
          <a:xfrm>
            <a:off x="531720" y="26028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书，被称为人类文明的“长生果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87042"/>
          <p:cNvSpPr/>
          <p:nvPr/>
        </p:nvSpPr>
        <p:spPr>
          <a:xfrm>
            <a:off x="419040" y="1197000"/>
            <a:ext cx="7070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长生果，即吃了可以使人长生不老的果子，在这里指营养极其丰富。这句话将书比喻为“长生果”，意思是书是人类的精神食粮，是人类文明延续的营养。充分表达了书与人类文明发展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文本框 88065"/>
          <p:cNvSpPr/>
          <p:nvPr/>
        </p:nvSpPr>
        <p:spPr>
          <a:xfrm>
            <a:off x="700200" y="40464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我读得很快，囫囵吞枣，大有“不求甚解”味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88066"/>
          <p:cNvSpPr/>
          <p:nvPr/>
        </p:nvSpPr>
        <p:spPr>
          <a:xfrm>
            <a:off x="838080" y="1981080"/>
            <a:ext cx="7910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囫囵吞枣，比喻读书不做细致地分析，笼统地接受。“不求甚解” 意思是读书只要略知大意就可以了，不必追求透彻。这里是指作者水平有限，因读不懂而放过去，不得已而为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文本框 91137"/>
          <p:cNvSpPr/>
          <p:nvPr/>
        </p:nvSpPr>
        <p:spPr>
          <a:xfrm>
            <a:off x="531720" y="26028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作文，首先构思要别出心裁，落笔也要有点与众不同的“鲜味”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91138"/>
          <p:cNvSpPr/>
          <p:nvPr/>
        </p:nvSpPr>
        <p:spPr>
          <a:xfrm>
            <a:off x="419040" y="1916280"/>
            <a:ext cx="70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别出心裁”，意思是与众不同的主意；“鲜味”，即新鲜的味道。这句话是作者在一次成功的习作后悟出的道理，完全得益于课外阅读。意思是要想将作文写好，就先要打破千篇一律的模式，不落窠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图片 160769" descr="{4A0CB27D-44AC-480B-9951-56442F32768C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4" name="文本框 160770"/>
          <p:cNvSpPr/>
          <p:nvPr/>
        </p:nvSpPr>
        <p:spPr>
          <a:xfrm>
            <a:off x="1260360" y="16239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      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小时候受过的一次委屈，平常积累的那些描写苦恼心境的词语，像酵母似的发挥了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60771"/>
          <p:cNvSpPr/>
          <p:nvPr/>
        </p:nvSpPr>
        <p:spPr>
          <a:xfrm>
            <a:off x="1258920" y="32590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真实的情感体验和课外阅读的积累，为这次作文奠定了良好的基础。厚积才能薄发。非常形象地说明了课外阅读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文本框 92161"/>
          <p:cNvSpPr/>
          <p:nvPr/>
        </p:nvSpPr>
        <p:spPr>
          <a:xfrm>
            <a:off x="685800" y="22860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92162"/>
          <p:cNvSpPr/>
          <p:nvPr/>
        </p:nvSpPr>
        <p:spPr>
          <a:xfrm>
            <a:off x="700200" y="2371680"/>
            <a:ext cx="79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借鉴”，拿别人的事作为镜子，以便从中吸取经验教训。鉴，镜子。“模仿”，仿效，照着样子做。“呕心沥血”，比喻费尽心血。这是作者在又一次成功习作后悟出的道理。作文应该表达真情实感，有感而发，以情感人；开始时必须要进行模仿和借鉴，习得一些方法。但只有浸透着自己心血和汗水的创造，才能打动人心，具有撼人心魄的力量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Box 1"/>
          <p:cNvSpPr/>
          <p:nvPr/>
        </p:nvSpPr>
        <p:spPr>
          <a:xfrm>
            <a:off x="1143000" y="457200"/>
            <a:ext cx="712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蜂蝶飞过花丛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泉水流经山谷。我每忆及少年时代，就禁不住涌起视听的愉悦之感。在记忆的心扉中，少年时代的读书生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恰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幅流光溢彩的画页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也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阕跳跃着欢快音符的乐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“月亮‘像一轮玉盘嵌在蓝色的天幕中’”这段文字中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字用得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2"/>
          <p:cNvSpPr/>
          <p:nvPr/>
        </p:nvSpPr>
        <p:spPr>
          <a:xfrm>
            <a:off x="1066680" y="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句段品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"/>
          <p:cNvSpPr/>
          <p:nvPr/>
        </p:nvSpPr>
        <p:spPr>
          <a:xfrm>
            <a:off x="1447920" y="2584440"/>
            <a:ext cx="70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运用比喻的修辞手法，把读书的那种愉悦感受生动、形象的表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4"/>
          <p:cNvSpPr/>
          <p:nvPr/>
        </p:nvSpPr>
        <p:spPr>
          <a:xfrm>
            <a:off x="1238400" y="43894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运用比喻的手法，生动、形象地描写了月亮像玉盘一样镶嵌在蓝色的天幕中，给人一种宁静、恬美的感觉。一个“嵌”字把月亮与蓝色的天幕连接起来，构成一幅优美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文本框 68609"/>
          <p:cNvSpPr/>
          <p:nvPr/>
        </p:nvSpPr>
        <p:spPr>
          <a:xfrm>
            <a:off x="1042920" y="1628640"/>
            <a:ext cx="7429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少年时代的读书生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恰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也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班得瑞、轻音乐_-_人间天上.mp3" descr=""/>
          <p:cNvPicPr/>
          <p:nvPr/>
        </p:nvPicPr>
        <p:blipFill>
          <a:blip r:embed="rId1"/>
          <a:stretch/>
        </p:blipFill>
        <p:spPr>
          <a:xfrm>
            <a:off x="684360" y="58770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251011" fill="hold"/>
                                        <p:tgtEl>
                                          <p:spTgt spid="1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40961" descr=""/>
          <p:cNvPicPr/>
          <p:nvPr/>
        </p:nvPicPr>
        <p:blipFill>
          <a:blip r:embed="rId1"/>
          <a:srcRect l="1667" t="0" r="6669" b="0"/>
          <a:stretch/>
        </p:blipFill>
        <p:spPr>
          <a:xfrm>
            <a:off x="1828800" y="228600"/>
            <a:ext cx="6019920" cy="13716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40962" descr="f2"/>
          <p:cNvPicPr/>
          <p:nvPr/>
        </p:nvPicPr>
        <p:blipFill>
          <a:blip r:embed="rId2"/>
          <a:srcRect l="1769" t="0" r="88502" b="0"/>
          <a:stretch/>
        </p:blipFill>
        <p:spPr>
          <a:xfrm>
            <a:off x="0" y="1676520"/>
            <a:ext cx="1143000" cy="45720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40963" descr="x1pIuxx1VYmtQtN0XzG83IKmSU67dLoCLDnKYl5zUoA-UT5ULhLD1ytSfWXRf0j9-6ehCoc-eNtjLWGYHJwZ7ZHdnP-qRVs4ykOP2YT8xvGqgTRci6KTQ9pEWK8No9ndgaGKft56dJE0EY"/>
          <p:cNvPicPr/>
          <p:nvPr/>
        </p:nvPicPr>
        <p:blipFill>
          <a:blip r:embed="rId3"/>
          <a:stretch/>
        </p:blipFill>
        <p:spPr>
          <a:xfrm>
            <a:off x="8077320" y="1676520"/>
            <a:ext cx="1066680" cy="4572000"/>
          </a:xfrm>
          <a:prstGeom prst="rect">
            <a:avLst/>
          </a:prstGeom>
          <a:ln w="0">
            <a:noFill/>
          </a:ln>
        </p:spPr>
      </p:pic>
      <p:sp>
        <p:nvSpPr>
          <p:cNvPr id="1177" name="文本框 40964"/>
          <p:cNvSpPr/>
          <p:nvPr/>
        </p:nvSpPr>
        <p:spPr>
          <a:xfrm>
            <a:off x="129528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书，被人们称为人类文明的“长生果”。这个比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ù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我觉得特别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40965"/>
          <p:cNvSpPr/>
          <p:nvPr/>
        </p:nvSpPr>
        <p:spPr>
          <a:xfrm>
            <a:off x="1066680" y="28195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行楷"/>
              </a:rPr>
              <a:t>将书比喻为“长生果”，意思是书是人类的精神食粮，是人类文明延续的营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40966"/>
          <p:cNvSpPr/>
          <p:nvPr/>
        </p:nvSpPr>
        <p:spPr>
          <a:xfrm>
            <a:off x="2362320" y="457200"/>
            <a:ext cx="464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比喻描写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矩形 40967"/>
          <p:cNvSpPr/>
          <p:nvPr/>
        </p:nvSpPr>
        <p:spPr>
          <a:xfrm>
            <a:off x="685800" y="3962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蜂蝶飞过花丛，像泉水流经山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似一幅流光溢彩的画页，也似一阕跳跃着欢快音符的乐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早的读物是被孩子们叫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烟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画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矩形 79873"/>
          <p:cNvSpPr txBox="1"/>
          <p:nvPr/>
        </p:nvSpPr>
        <p:spPr>
          <a:xfrm>
            <a:off x="2197080" y="83808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文章思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2" name="直接连接符 79874"/>
          <p:cNvSpPr/>
          <p:nvPr/>
        </p:nvSpPr>
        <p:spPr>
          <a:xfrm>
            <a:off x="284940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矩形 79875"/>
          <p:cNvSpPr txBox="1"/>
          <p:nvPr/>
        </p:nvSpPr>
        <p:spPr>
          <a:xfrm>
            <a:off x="1187280" y="2133720"/>
            <a:ext cx="356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总写读书的感受：愉悦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4" name="直接连接符 79876"/>
          <p:cNvSpPr/>
          <p:nvPr/>
        </p:nvSpPr>
        <p:spPr>
          <a:xfrm>
            <a:off x="28494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矩形 79877"/>
          <p:cNvSpPr txBox="1"/>
          <p:nvPr/>
        </p:nvSpPr>
        <p:spPr>
          <a:xfrm>
            <a:off x="1187280" y="3429000"/>
            <a:ext cx="391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回忆少年时代的读书经历、影响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6" name="矩形 79878"/>
          <p:cNvSpPr txBox="1"/>
          <p:nvPr/>
        </p:nvSpPr>
        <p:spPr>
          <a:xfrm>
            <a:off x="1068480" y="4648320"/>
            <a:ext cx="463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抒发自己对读书和人生的感慨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7" name="直接连接符 79879"/>
          <p:cNvSpPr/>
          <p:nvPr/>
        </p:nvSpPr>
        <p:spPr>
          <a:xfrm>
            <a:off x="28494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直接连接符 79880"/>
          <p:cNvSpPr/>
          <p:nvPr/>
        </p:nvSpPr>
        <p:spPr>
          <a:xfrm>
            <a:off x="5284800" y="342900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79881"/>
          <p:cNvSpPr txBox="1"/>
          <p:nvPr/>
        </p:nvSpPr>
        <p:spPr>
          <a:xfrm>
            <a:off x="6294600" y="914400"/>
            <a:ext cx="249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悟出的写作技巧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矩形 79882"/>
          <p:cNvSpPr txBox="1"/>
          <p:nvPr/>
        </p:nvSpPr>
        <p:spPr>
          <a:xfrm>
            <a:off x="6353280" y="205740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构思要精巧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1" name="矩形 79883"/>
          <p:cNvSpPr txBox="1"/>
          <p:nvPr/>
        </p:nvSpPr>
        <p:spPr>
          <a:xfrm>
            <a:off x="6175440" y="3048120"/>
            <a:ext cx="213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写真情实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2" name="矩形 79884"/>
          <p:cNvSpPr txBox="1"/>
          <p:nvPr/>
        </p:nvSpPr>
        <p:spPr>
          <a:xfrm>
            <a:off x="6353280" y="411480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有创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3" name="矩形 79885"/>
          <p:cNvSpPr txBox="1"/>
          <p:nvPr/>
        </p:nvSpPr>
        <p:spPr>
          <a:xfrm>
            <a:off x="6294600" y="487692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长期积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图片 57346" descr="3085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6" name="文本框 57347"/>
          <p:cNvSpPr/>
          <p:nvPr/>
        </p:nvSpPr>
        <p:spPr>
          <a:xfrm>
            <a:off x="304920" y="685800"/>
            <a:ext cx="81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的“长生果”指的是什么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57348"/>
          <p:cNvSpPr/>
          <p:nvPr/>
        </p:nvSpPr>
        <p:spPr>
          <a:xfrm>
            <a:off x="250920" y="1523880"/>
            <a:ext cx="889308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生果指吃了可以使人长生不老的果子，这里指营养极其丰富。作者将书比喻为“长生果”，意思是书是人类的精神食量，充分表达了书与人类发展的关系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57349"/>
          <p:cNvSpPr/>
          <p:nvPr/>
        </p:nvSpPr>
        <p:spPr>
          <a:xfrm>
            <a:off x="7740720" y="6669000"/>
            <a:ext cx="100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71681"/>
          <p:cNvSpPr/>
          <p:nvPr/>
        </p:nvSpPr>
        <p:spPr>
          <a:xfrm>
            <a:off x="1981080" y="7621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我的“长生果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71682"/>
          <p:cNvSpPr/>
          <p:nvPr/>
        </p:nvSpPr>
        <p:spPr>
          <a:xfrm>
            <a:off x="4952880" y="1600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叶文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71683"/>
          <p:cNvSpPr/>
          <p:nvPr/>
        </p:nvSpPr>
        <p:spPr>
          <a:xfrm>
            <a:off x="838080" y="2209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解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71684"/>
          <p:cNvSpPr/>
          <p:nvPr/>
        </p:nvSpPr>
        <p:spPr>
          <a:xfrm>
            <a:off x="914400" y="2971800"/>
            <a:ext cx="68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篇散文，主体是回忆少年时代的读书生活，阐明读书的特有感受以及读书对自己生活的影响，感情真挚，层次分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文本框 32772"/>
          <p:cNvSpPr/>
          <p:nvPr/>
        </p:nvSpPr>
        <p:spPr>
          <a:xfrm>
            <a:off x="2590920" y="38088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悟出的道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32773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32774"/>
          <p:cNvSpPr/>
          <p:nvPr/>
        </p:nvSpPr>
        <p:spPr>
          <a:xfrm>
            <a:off x="380880" y="1523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作文，首先构思要别出心裁，落笔也　　　要有点与众不同的“鲜味”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32775"/>
          <p:cNvSpPr/>
          <p:nvPr/>
        </p:nvSpPr>
        <p:spPr>
          <a:xfrm>
            <a:off x="228600" y="30481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图片 32776" descr="dushunvhai"/>
          <p:cNvPicPr/>
          <p:nvPr/>
        </p:nvPicPr>
        <p:blipFill>
          <a:blip r:embed="rId1"/>
          <a:stretch/>
        </p:blipFill>
        <p:spPr>
          <a:xfrm>
            <a:off x="533520" y="30492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204" name="图片 32777" descr="gezi"/>
          <p:cNvPicPr/>
          <p:nvPr/>
        </p:nvPicPr>
        <p:blipFill>
          <a:blip r:embed="rId2"/>
          <a:stretch/>
        </p:blipFill>
        <p:spPr>
          <a:xfrm>
            <a:off x="7543800" y="45720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9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5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矩形 80897"/>
          <p:cNvSpPr txBox="1"/>
          <p:nvPr/>
        </p:nvSpPr>
        <p:spPr>
          <a:xfrm>
            <a:off x="1128600" y="228600"/>
            <a:ext cx="284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课外延伸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6" name="矩形 80898"/>
          <p:cNvSpPr txBox="1"/>
          <p:nvPr/>
        </p:nvSpPr>
        <p:spPr>
          <a:xfrm>
            <a:off x="1959120" y="1447920"/>
            <a:ext cx="694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由自己的读书经历悟出了哪些有关作文的道理？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7" name="矩形 80899"/>
          <p:cNvSpPr txBox="1"/>
          <p:nvPr/>
        </p:nvSpPr>
        <p:spPr>
          <a:xfrm>
            <a:off x="1068480" y="2666880"/>
            <a:ext cx="807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由自己的读书经历，又悟出了哪些与作者不同的道理？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莎士比亚说：“书籍是全世界的营养品。像我这样对阅读如饥似渴的少年，它的功用更是不言而喻。醉心阅读使我得到了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报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图片 60418" descr="dushunvhai"/>
          <p:cNvPicPr/>
          <p:nvPr/>
        </p:nvPicPr>
        <p:blipFill>
          <a:blip r:embed="rId1"/>
          <a:stretch/>
        </p:blipFill>
        <p:spPr>
          <a:xfrm>
            <a:off x="380880" y="380880"/>
            <a:ext cx="1160640" cy="1447920"/>
          </a:xfrm>
          <a:prstGeom prst="rect">
            <a:avLst/>
          </a:prstGeom>
          <a:ln w="0">
            <a:noFill/>
          </a:ln>
        </p:spPr>
      </p:pic>
      <p:pic>
        <p:nvPicPr>
          <p:cNvPr id="1210" name="图片 60419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文本框 163841"/>
          <p:cNvSpPr/>
          <p:nvPr/>
        </p:nvSpPr>
        <p:spPr>
          <a:xfrm>
            <a:off x="3995640" y="321300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来书真正是全世界的营养品啊！即使多年之后品味读书的味道，还是这样让人心醉。让我们再读读课文，体会那种读书的乐趣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63842"/>
          <p:cNvSpPr/>
          <p:nvPr/>
        </p:nvSpPr>
        <p:spPr>
          <a:xfrm>
            <a:off x="25092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回归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164865"/>
          <p:cNvGrpSpPr/>
          <p:nvPr/>
        </p:nvGrpSpPr>
        <p:grpSpPr>
          <a:xfrm>
            <a:off x="2771640" y="907920"/>
            <a:ext cx="4190760" cy="1066680"/>
            <a:chOff x="2771640" y="907920"/>
            <a:chExt cx="4190760" cy="1066680"/>
          </a:xfrm>
        </p:grpSpPr>
        <p:grpSp>
          <p:nvGrpSpPr>
            <p:cNvPr id="1214" name="组合 164866"/>
            <p:cNvGrpSpPr/>
            <p:nvPr/>
          </p:nvGrpSpPr>
          <p:grpSpPr>
            <a:xfrm>
              <a:off x="2771640" y="907920"/>
              <a:ext cx="3886200" cy="1066680"/>
              <a:chOff x="2771640" y="907920"/>
              <a:chExt cx="3886200" cy="1066680"/>
            </a:xfrm>
          </p:grpSpPr>
          <p:sp>
            <p:nvSpPr>
              <p:cNvPr id="1215" name="椭圆 164867"/>
              <p:cNvSpPr/>
              <p:nvPr/>
            </p:nvSpPr>
            <p:spPr>
              <a:xfrm>
                <a:off x="2771640" y="907920"/>
                <a:ext cx="3200400" cy="1066680"/>
              </a:xfrm>
              <a:prstGeom prst="ellipse">
                <a:avLst/>
              </a:prstGeom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文本框 164868"/>
              <p:cNvSpPr/>
              <p:nvPr/>
            </p:nvSpPr>
            <p:spPr>
              <a:xfrm>
                <a:off x="3000240" y="983880"/>
                <a:ext cx="3657600" cy="825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2300" dir="836435" blurRad="0" rotWithShape="0">
                  <a:srgbClr val="fff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>
                    <a:solidFill>
                      <a:srgbClr val="ff33cc"/>
                    </a:solidFill>
                    <a:latin typeface="Times New Roman"/>
                    <a:ea typeface="方正姚体"/>
                  </a:rPr>
                  <a:t>课堂小结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7" name="图片 164869" descr="png-0070"/>
            <p:cNvPicPr/>
            <p:nvPr/>
          </p:nvPicPr>
          <p:blipFill>
            <a:blip r:embed="rId1"/>
            <a:stretch/>
          </p:blipFill>
          <p:spPr>
            <a:xfrm>
              <a:off x="6124320" y="106056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8" name="文本框 164870"/>
          <p:cNvSpPr/>
          <p:nvPr/>
        </p:nvSpPr>
        <p:spPr>
          <a:xfrm>
            <a:off x="971640" y="2276640"/>
            <a:ext cx="72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中宋"/>
              </a:rPr>
              <a:t>这是一篇散文，主体是回忆少年时代的读书生活，阐明读书的特有感受以及读书对自己生活的影响，感情真挚，层次分明。作者在读写的实践中，逐渐悟出了读写间的关系和写作方法 ，值得我们在以后的学习中借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图片 164871" descr="png-0157"/>
          <p:cNvPicPr/>
          <p:nvPr/>
        </p:nvPicPr>
        <p:blipFill>
          <a:blip r:embed="rId2"/>
          <a:stretch/>
        </p:blipFill>
        <p:spPr>
          <a:xfrm>
            <a:off x="6732720" y="479736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3" name="wind.wav"/>
      </p:stSnd>
    </p:sndAc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文本框 165889"/>
          <p:cNvSpPr/>
          <p:nvPr/>
        </p:nvSpPr>
        <p:spPr>
          <a:xfrm>
            <a:off x="1619280" y="981000"/>
            <a:ext cx="597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品读文章语言，作者在运用语言上有什么特点？</a:t>
            </a:r>
            <a:r>
              <a:rPr b="1" lang="zh-CN" sz="2800" spc="-1" strike="noStrike">
                <a:solidFill>
                  <a:srgbClr val="0066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65890"/>
          <p:cNvSpPr/>
          <p:nvPr/>
        </p:nvSpPr>
        <p:spPr>
          <a:xfrm>
            <a:off x="1042920" y="2565360"/>
            <a:ext cx="676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．生动的比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．恰当的成语。例如，流光溢彩、津津有味、天长日久、如醉如痴、浮想联翩、悲欢离合、牵肠挂肚、如饥似渴、不言而喻、黯然神伤、千篇一律、大显身手、心安理得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图片 165891" descr="Gif32"/>
          <p:cNvPicPr/>
          <p:nvPr/>
        </p:nvPicPr>
        <p:blipFill>
          <a:blip r:embed="rId1"/>
          <a:stretch/>
        </p:blipFill>
        <p:spPr>
          <a:xfrm>
            <a:off x="7524720" y="4654440"/>
            <a:ext cx="205740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3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0" y="1472400"/>
            <a:ext cx="91440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开卷有益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陶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山有路勤为径，学海无涯苦作舟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韩愈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到用时方恨少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陆游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书破万卷，下笔如有神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杜甫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万卷书，行万里路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清代钱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一本好书，就是和许多高尚的人谈话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歌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籍是人类知识的总结，书籍是全世界的营养品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籍是人类进步的阶梯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1000080" y="0"/>
            <a:ext cx="6357960" cy="131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读书名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文本框 69633"/>
          <p:cNvSpPr/>
          <p:nvPr/>
        </p:nvSpPr>
        <p:spPr>
          <a:xfrm>
            <a:off x="179280" y="260280"/>
            <a:ext cx="87138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书的格言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好的书籍是最贵重的珍宝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别林斯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使人们成为宇宙的主人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巴甫连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中横卧着整个过去的灵魂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莱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的影响短暂而微弱，书的影响则广泛而深远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希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离开了书，如同离开空气一样不能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洛廖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把我们引入最美好的社会，使我们认识各个时代的伟大智者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史美尔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便是这种改造灵魂的工具。人类所需要的，是富有启发性的养料。而阅读，则正是这种养料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雨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861840" y="1071720"/>
            <a:ext cx="82821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孔子韦编三绝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西汉匡衡凿壁借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晋朝车胤囊萤映雪    汉代孙敬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头悬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战国苏秦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锥刺股        鲁迅嚼辣椒驱寒</a:t>
            </a:r>
            <a:r>
              <a:rPr b="0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1789200" y="0"/>
            <a:ext cx="628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0a0"/>
                </a:solidFill>
                <a:latin typeface="Garamond"/>
                <a:ea typeface="黑体"/>
              </a:rPr>
              <a:t>名人读书的趣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5"/>
          <p:cNvSpPr/>
          <p:nvPr/>
        </p:nvSpPr>
        <p:spPr>
          <a:xfrm>
            <a:off x="5572080" y="142920"/>
            <a:ext cx="150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"/>
          <p:cNvSpPr/>
          <p:nvPr/>
        </p:nvSpPr>
        <p:spPr>
          <a:xfrm>
            <a:off x="731880" y="2151720"/>
            <a:ext cx="8213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宁读起书来，对周围的一切就理会不到了。有一次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几个姐妹恶作剧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椅子在他身后搭了一个不稳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塔，只要列宁一动，塔就会倾倒。然而，正专心读书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宁毫无察觉，纹丝不动。直到半小时后，他读完了预定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读的一章书，才抬起头来，木塔轰然倒塌…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7"/>
          <p:cNvSpPr/>
          <p:nvPr/>
        </p:nvSpPr>
        <p:spPr>
          <a:xfrm>
            <a:off x="128736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黑体"/>
              </a:rPr>
              <a:t>列宁读书趣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 Box 6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各抒己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7"/>
          <p:cNvSpPr/>
          <p:nvPr/>
        </p:nvSpPr>
        <p:spPr>
          <a:xfrm>
            <a:off x="1722600" y="1447920"/>
            <a:ext cx="385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宋体"/>
              </a:rPr>
              <a:t>你能说说自己和书之间的故事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8" descr="D:\wendang\xinlifudao\心理图片\读书图.gif"/>
          <p:cNvPicPr/>
          <p:nvPr/>
        </p:nvPicPr>
        <p:blipFill>
          <a:blip r:embed="rId1"/>
          <a:stretch/>
        </p:blipFill>
        <p:spPr>
          <a:xfrm>
            <a:off x="5878440" y="990720"/>
            <a:ext cx="32655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64513" descr="背景2"/>
          <p:cNvPicPr/>
          <p:nvPr/>
        </p:nvPicPr>
        <p:blipFill>
          <a:blip r:embed="rId1"/>
          <a:stretch/>
        </p:blipFill>
        <p:spPr>
          <a:xfrm>
            <a:off x="0" y="-1251000"/>
            <a:ext cx="9144000" cy="7317000"/>
          </a:xfrm>
          <a:prstGeom prst="rect">
            <a:avLst/>
          </a:prstGeom>
          <a:ln w="0">
            <a:noFill/>
          </a:ln>
        </p:spPr>
      </p:pic>
      <p:sp>
        <p:nvSpPr>
          <p:cNvPr id="1013" name="文本框 64514"/>
          <p:cNvSpPr/>
          <p:nvPr/>
        </p:nvSpPr>
        <p:spPr>
          <a:xfrm>
            <a:off x="1403280" y="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我会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64515"/>
          <p:cNvSpPr/>
          <p:nvPr/>
        </p:nvSpPr>
        <p:spPr>
          <a:xfrm>
            <a:off x="1332000" y="1341360"/>
            <a:ext cx="705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不言而喻       心扉      呐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过瘾        囫囵吞枣   莎士比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磁石     锻炼   借鉴   呕心沥血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64516"/>
          <p:cNvSpPr/>
          <p:nvPr/>
        </p:nvSpPr>
        <p:spPr>
          <a:xfrm>
            <a:off x="2987640" y="692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64517"/>
          <p:cNvSpPr/>
          <p:nvPr/>
        </p:nvSpPr>
        <p:spPr>
          <a:xfrm>
            <a:off x="4788000" y="692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f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64518"/>
          <p:cNvSpPr/>
          <p:nvPr/>
        </p:nvSpPr>
        <p:spPr>
          <a:xfrm>
            <a:off x="6227640" y="76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n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64519"/>
          <p:cNvSpPr/>
          <p:nvPr/>
        </p:nvSpPr>
        <p:spPr>
          <a:xfrm>
            <a:off x="1979640" y="2276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yǐ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64520"/>
          <p:cNvSpPr/>
          <p:nvPr/>
        </p:nvSpPr>
        <p:spPr>
          <a:xfrm>
            <a:off x="3492360" y="2276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hú l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64521"/>
          <p:cNvSpPr/>
          <p:nvPr/>
        </p:nvSpPr>
        <p:spPr>
          <a:xfrm>
            <a:off x="6012000" y="2205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h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64522"/>
          <p:cNvSpPr/>
          <p:nvPr/>
        </p:nvSpPr>
        <p:spPr>
          <a:xfrm>
            <a:off x="1692360" y="4149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64523"/>
          <p:cNvSpPr/>
          <p:nvPr/>
        </p:nvSpPr>
        <p:spPr>
          <a:xfrm>
            <a:off x="3276720" y="4149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64524"/>
          <p:cNvSpPr/>
          <p:nvPr/>
        </p:nvSpPr>
        <p:spPr>
          <a:xfrm>
            <a:off x="4788000" y="4221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64525"/>
          <p:cNvSpPr/>
          <p:nvPr/>
        </p:nvSpPr>
        <p:spPr>
          <a:xfrm>
            <a:off x="6227640" y="4149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ǒu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1026"/>
          <p:cNvSpPr/>
          <p:nvPr/>
        </p:nvSpPr>
        <p:spPr>
          <a:xfrm>
            <a:off x="1401840" y="42840"/>
            <a:ext cx="3786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画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许多美妙的图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看着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看到很多五彩缤纷的图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一个又一个优美的故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读着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明白做人的道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学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令人心动的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研究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创造惊天动地的奇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1027"/>
          <p:cNvSpPr/>
          <p:nvPr/>
        </p:nvSpPr>
        <p:spPr>
          <a:xfrm>
            <a:off x="5521320" y="285840"/>
            <a:ext cx="362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是知识的海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它丰富了我的头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让我茁壮成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1028" descr="C:\My Documents\YD.BMP"/>
          <p:cNvPicPr/>
          <p:nvPr/>
        </p:nvPicPr>
        <p:blipFill>
          <a:blip r:embed="rId1">
            <a:lum contrast="-4000"/>
          </a:blip>
          <a:stretch/>
        </p:blipFill>
        <p:spPr>
          <a:xfrm>
            <a:off x="5343480" y="2286000"/>
            <a:ext cx="3444840" cy="4572000"/>
          </a:xfrm>
          <a:prstGeom prst="rect">
            <a:avLst/>
          </a:prstGeom>
          <a:ln w="0">
            <a:noFill/>
          </a:ln>
        </p:spPr>
      </p:pic>
      <p:sp>
        <p:nvSpPr>
          <p:cNvPr id="1241" name="Text Box 1029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 Box 2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"/>
          <p:cNvSpPr/>
          <p:nvPr/>
        </p:nvSpPr>
        <p:spPr>
          <a:xfrm>
            <a:off x="2136600" y="1523880"/>
            <a:ext cx="635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提到很多有名的书，你是否看过？请选择你感兴趣的书来读并做好读书笔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我和书的故事”为话题作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2"/>
          <p:cNvSpPr txBox="1"/>
          <p:nvPr/>
        </p:nvSpPr>
        <p:spPr>
          <a:xfrm>
            <a:off x="1662120" y="1905120"/>
            <a:ext cx="724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</a:t>
            </a:r>
            <a:r>
              <a:rPr b="0" lang="zh-CN" sz="1800" spc="1" strike="noStrike">
                <a:ln w="4752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书好！好读书！读好书！ </a:t>
            </a:r>
            <a:endParaRPr b="0" lang="en-US" sz="1800" spc="1" strike="noStrike">
              <a:ln w="4752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Arial"/>
                <a:ea typeface="华文隶书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5" descr="BD00028_"/>
          <p:cNvPicPr/>
          <p:nvPr/>
        </p:nvPicPr>
        <p:blipFill>
          <a:blip r:embed="rId1"/>
          <a:stretch/>
        </p:blipFill>
        <p:spPr>
          <a:xfrm>
            <a:off x="928800" y="278604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36867"/>
          <p:cNvSpPr/>
          <p:nvPr/>
        </p:nvSpPr>
        <p:spPr>
          <a:xfrm>
            <a:off x="685800" y="12733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恰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如饥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渴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似的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美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ā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差不多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禁止吸烟 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ì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禁不住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衣冠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全班之冠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à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向那里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è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奔跑 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ē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外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   区分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ē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甸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àn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甸子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àn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6868"/>
          <p:cNvSpPr/>
          <p:nvPr/>
        </p:nvSpPr>
        <p:spPr>
          <a:xfrm>
            <a:off x="4876920" y="12193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6869"/>
          <p:cNvSpPr txBox="1"/>
          <p:nvPr/>
        </p:nvSpPr>
        <p:spPr>
          <a:xfrm>
            <a:off x="2971800" y="4572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3399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能读准</a:t>
            </a:r>
            <a:endParaRPr b="0" lang="en-US" sz="1800" spc="1" strike="noStrike">
              <a:ln w="19080">
                <a:solidFill>
                  <a:srgbClr val="ff3399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8" name="图片 36870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6871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13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Arial"/>
              </a:rPr>
              <a:t>我会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29699"/>
          <p:cNvSpPr/>
          <p:nvPr/>
        </p:nvSpPr>
        <p:spPr>
          <a:xfrm>
            <a:off x="533520" y="14479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比喻　心扉　一阕　呐喊　水浒　过瘾　卓娅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磁石　锻炼　酵母　皎洁　誊抄　借鉴　眼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赞誉　沉甸甸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700"/>
          <p:cNvSpPr/>
          <p:nvPr/>
        </p:nvSpPr>
        <p:spPr>
          <a:xfrm>
            <a:off x="3886200" y="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29703"/>
          <p:cNvSpPr/>
          <p:nvPr/>
        </p:nvSpPr>
        <p:spPr>
          <a:xfrm>
            <a:off x="5715000" y="-351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29710"/>
          <p:cNvSpPr/>
          <p:nvPr/>
        </p:nvSpPr>
        <p:spPr>
          <a:xfrm>
            <a:off x="6477120" y="6507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图片 29712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9713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文本框 41985"/>
          <p:cNvSpPr/>
          <p:nvPr/>
        </p:nvSpPr>
        <p:spPr>
          <a:xfrm>
            <a:off x="17928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大黑简体"/>
              </a:rPr>
              <a:t>熟读并理解下面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41986"/>
          <p:cNvSpPr/>
          <p:nvPr/>
        </p:nvSpPr>
        <p:spPr>
          <a:xfrm>
            <a:off x="250920" y="1052640"/>
            <a:ext cx="87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光溢彩　呐喊助威　津津有味　天长日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醉如痴　浮想联翩　泪落如珠　囫囵吞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求甚解　悲欢离合　牵肠挂肚　如饥似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言而喻　黯然神伤　千篇一律　天高气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淡日丽　香飘四野　别出心裁　与众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显身手　心安理得　呕心沥血　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文本框 58376"/>
          <p:cNvSpPr/>
          <p:nvPr/>
        </p:nvSpPr>
        <p:spPr>
          <a:xfrm>
            <a:off x="1981080" y="2133720"/>
            <a:ext cx="617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58379"/>
          <p:cNvSpPr/>
          <p:nvPr/>
        </p:nvSpPr>
        <p:spPr>
          <a:xfrm>
            <a:off x="68580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58380"/>
          <p:cNvSpPr/>
          <p:nvPr/>
        </p:nvSpPr>
        <p:spPr>
          <a:xfrm>
            <a:off x="1600200" y="3505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58381"/>
          <p:cNvSpPr/>
          <p:nvPr/>
        </p:nvSpPr>
        <p:spPr>
          <a:xfrm>
            <a:off x="3794040" y="3444840"/>
            <a:ext cx="39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58382"/>
          <p:cNvSpPr/>
          <p:nvPr/>
        </p:nvSpPr>
        <p:spPr>
          <a:xfrm>
            <a:off x="46483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58383"/>
          <p:cNvSpPr/>
          <p:nvPr/>
        </p:nvSpPr>
        <p:spPr>
          <a:xfrm>
            <a:off x="593640" y="44402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58384"/>
          <p:cNvSpPr/>
          <p:nvPr/>
        </p:nvSpPr>
        <p:spPr>
          <a:xfrm>
            <a:off x="1600200" y="4419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58385"/>
          <p:cNvSpPr/>
          <p:nvPr/>
        </p:nvSpPr>
        <p:spPr>
          <a:xfrm>
            <a:off x="3886200" y="434340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8386"/>
          <p:cNvSpPr/>
          <p:nvPr/>
        </p:nvSpPr>
        <p:spPr>
          <a:xfrm>
            <a:off x="48769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8387"/>
          <p:cNvSpPr/>
          <p:nvPr/>
        </p:nvSpPr>
        <p:spPr>
          <a:xfrm>
            <a:off x="609480" y="139716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囫囵吞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ú lún tūn zǎ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【解释】：囫囵：整个儿。把枣整个咽下去，不加咀嚼，不辨滋味。比喻对事物不加分析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图片 58388" descr="dushunvhai"/>
          <p:cNvPicPr/>
          <p:nvPr/>
        </p:nvPicPr>
        <p:blipFill>
          <a:blip r:embed="rId1"/>
          <a:stretch/>
        </p:blipFill>
        <p:spPr>
          <a:xfrm>
            <a:off x="7238880" y="152280"/>
            <a:ext cx="89712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0:56:48Z</dcterms:created>
  <dc:creator/>
  <dc:description/>
  <dc:language>en-US</dc:language>
  <cp:lastModifiedBy>万润仪器贸易公司</cp:lastModifiedBy>
  <dcterms:modified xsi:type="dcterms:W3CDTF">2020-08-24T06:37:27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